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9C4-5722-4C9E-B53F-0F43D482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84A-9D09-4A7A-A81D-119E98A1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C862-7960-4BB2-B11C-040DF66F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6A9-3123-4C31-AE99-BA10B3A5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14B-7E80-4FF0-9516-85C460A9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FE7-1895-4134-A3C6-D57DF054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283-DAB9-4655-A1E2-F760C26D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251-A63A-4F5D-B834-810AD073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D49-8A77-462F-AC2A-E0C77F98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0BA-3A9E-4DCE-9026-4F49AFB5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30B-DF19-4695-AC98-72994D84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8DF-7B5D-47F4-8DED-92BC1D17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55E7-D3DC-4768-9537-8C20EA5AA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Program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523880"/>
            <a:ext cx="7838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you find optimal solutions to the follow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criterion for measuring performance (car with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, good gas mileage, stylish, etc.. / attend school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reputation, low tuition, close to home, right program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objectives /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Minimize service cost, maximize customer satisf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: Use Goal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Programming: Preemptiv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7520" y="182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960" y="1371600"/>
            <a:ext cx="769608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both goal HIM and LIP are met, make goal HIM and LIP fixed constraints while trying to satisfy goal HI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             Z =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M)           7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3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= 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P)           1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5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          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= 6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W)           5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4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                        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Bud.) 10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6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=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=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Programming: Additional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7520" y="182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960" y="1371600"/>
            <a:ext cx="7696080" cy="54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pany has two machines for manufacturing a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 1 make two units per hour, while machine 2 m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units per hour.  The company has an order of 80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restrictions dictate that only one machine can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one time.  The company has 40 hours of regular mach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, but overtime is available.  It costs $4.00 to run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for one hour, while machine 2 costs $5.00 per hour.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has the following go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 the demand of 80 units exa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 machine overtime to 10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40 hours of normal machin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Programming: Preemptiv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7520" y="182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960" y="1371600"/>
            <a:ext cx="769608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ing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the relative weighting of each goal, the example can be formulated as the following L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         Z =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3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= 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          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= 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5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                                        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Programming – Exampl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9880" y="1573200"/>
            <a:ext cx="8230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work for an Advertising agency.  A customer has iden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primary target audiences they are trying to reach, and has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ertising budget of $600,000.  They have expressed their targ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form of three goa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1 – Ads should be seen by at least 40 million high-income men (HI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2 – Ads should be seen by at least 60 million low-income people (L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3 – Ads should be seen by at least 35 million high-income women (HI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recognize that advertising during football games and soap operas 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ver the target audience.  The table below indicates the number of view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the different categories that will be viewing these types of program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IM                  LIP             HIW          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tball ad (per min.)   7 million          10 million     5 million    $1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ap Opera ad (/min)    3 million           5 million     4 million      $6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Programming – Exampl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0280" y="1600200"/>
            <a:ext cx="46065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ng the goals as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: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inutes of football 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inutes of soap opera 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1 - HIM)   7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3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2 - LIP)   1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5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3 - HIW)   5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4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Budget)   10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6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Programming – Exampl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0720" y="1557360"/>
            <a:ext cx="850176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ating the problem as an L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raphing the feasibl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 (or Max)   Z =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M)    7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3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P)   1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5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6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W)     5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4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Bud.) 10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6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onstraints are real constraints versus “desired” constrai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onstraints are “hard” constraints versus “soft” constrai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Programming – Exampl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1880" y="1219320"/>
            <a:ext cx="7858800" cy="59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first three constraints are really goals, and not “har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, express these constraints in term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i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M)   7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3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= 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P)   1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5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          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= 6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W)   5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4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                        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each shortfall 0f 1,000,000 viewers from the go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s to a cost of $200,000 for HIM, $100,000 for 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$50,000 for HIW.  Then the objective function would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 Z =  200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00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50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Programming – Exampl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6920" y="1219320"/>
            <a:ext cx="7631640" cy="65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in order to minimize the penalty for not reaching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ing audience goal can be expressed as the following L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             Z =  200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00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50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M)           7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3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= 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P)           1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5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          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= 6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W)           5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4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                        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Bud.) 10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6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timal solution to the above LP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250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Programming: Weighted -vs-Preemptiv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6360" y="182880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advertising example, the goals could readily be weigh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relative importance using the cost penalties ($200,000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M, $100,000 for LIP and $50,000 for HI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any cases, the relative “weighting” of a goal is not easi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d, however the goals can be ranked from m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least important.  In this case, the mos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pre-empts all the other goals.  Once the mos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is met, the second goal is addressed,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Programming: Preemptiv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7520" y="182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960" y="1371600"/>
            <a:ext cx="7696080" cy="57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he HIM constraint must be met first, followed by LIP and then HI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write the LP as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             Z =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M)           7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3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= 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P)           1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5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          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= 6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W)           5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4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                        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Bud.) 10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6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P solves to Z = 0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  So goal HIM is m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Programming: Preemptiv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520" y="182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960" y="1371600"/>
            <a:ext cx="769608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goal HIM is met, now make goal HIM a fixed constraint while trying to satisfy goal L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             Z =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M)           7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3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= 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P)           1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5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          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= 6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W)           5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4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                        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Bud.) 10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60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P solves to Z = 0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  So goal LIP is m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9T14:03:41Z</dcterms:created>
  <dc:creator>William Peterson</dc:creator>
  <dc:description/>
  <dc:language>en-US</dc:language>
  <cp:lastModifiedBy>William Peterson</cp:lastModifiedBy>
  <dcterms:modified xsi:type="dcterms:W3CDTF">2002-12-16T21:04:26Z</dcterms:modified>
  <cp:revision>57</cp:revision>
  <dc:subject/>
  <dc:title>Linear Programming</dc:title>
</cp:coreProperties>
</file>